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100-25F5-44AB-AE43-627A0106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6C7A-879D-4D84-B00B-425160F5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8F42-2743-4010-B32C-E2E88C86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6AC-5655-4BAA-BF26-A93C7E56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2E1A-82E6-4E36-B81E-5BFC36B2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D827-8E80-4D27-AC60-5C7B6B63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DACE-5607-42E2-918E-D144D216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EB5C-4599-4E2F-8A8B-2BA28D89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E396-A626-417E-AA60-F79A603B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97D5-29C6-4F67-BE55-DA9E7D12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0AA3-D8DD-460E-B3E3-32EE4701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E95-13F6-4246-8B94-8F4FD91C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6AB5-64F6-4D32-B7A6-354896BC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D592-59ED-47D8-8E41-7ADC0A97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E5CD-85B3-448F-913C-99BF46C9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6189-3000-4DA3-9810-A81F9F1E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14A0-D733-4BB9-9EF6-3CB1E002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595B0-3A21-47DC-8BC3-935DC1E2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34582-6D51-4A4D-ACA9-BA5CFA7B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86AC7-DE92-44A0-90D7-163191C5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ACC57-171E-4205-9C02-53A29DB5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C2D88-DF45-4B63-B23E-CBBB9CB0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4C0-3DA3-4FC1-8FF9-693C0532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F8F43-DA8B-4819-B1CF-1BEB8EFA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5108B-9EE7-4A03-8E3F-4882F676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E6D87-FD24-4BD7-92BA-EE51D4DD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97CAB-C119-4282-B063-CC39BE27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21103-CC8D-46BC-8493-2197C452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A16CA-FE30-449E-BF1B-AD805FAA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DBA58-872B-4C38-BF0E-DC4B71B1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30753-A26F-4C5A-B876-74BA2E18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799D1-6575-42A3-BF82-97D1C7D1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BB1B4-3702-4983-AB68-0A258CA0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4C2A-3A10-4C20-A405-22821B60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D46BE-F8E0-4D92-AB47-B44A0D40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5B4F7-5FD2-4070-8F4A-4ADA0DA7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632D2-7662-48C5-9ACB-811CFEC6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90AC1-4099-4A73-82CA-48AF1A5C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4997F-7AB0-4485-B93E-6695C0DA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24B7C-6777-4E02-ACFD-4AC13116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A81E0-D09C-4DBB-B593-64B5DA0D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CEF6D-2F8F-4093-B2D2-A7D8AEE2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47BDB-D24D-4219-92F4-03CF1D45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D52CC-89BD-4D95-A87F-FFCCFECF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123-94B5-4662-BF0A-04566962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A8088-26A6-4CD3-AFC2-55E8E848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2970D-4643-43C5-8639-38FDCCF1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A2336-4008-423C-8B67-2561E602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0E35B-DCDE-470D-AB0C-414437CA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7B499-EC1E-4E0A-ACE6-1581499A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2D159-BB07-4B1C-8318-36578FD9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BD537-5304-4B9D-B90B-D2D1D5A2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F634F-B405-4B2D-A30E-31529F2B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21630-2F1A-4C5B-B203-EE19AC09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3DF01-97A3-45B3-8D8A-37E5C2D7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2FE8-506C-43D8-BF1B-DD493F27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BFBF5-5E3A-4251-832B-2E6FEEFB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87505-0236-47B5-BCDE-FE3E5673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83AAB-0214-463F-8D2A-F6D8EF59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7505E-5E43-4646-979D-62F37552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6E59F-FA88-4BD7-90C5-0A55FD35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464AB-7B2B-4D0B-BB8D-C25928B0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D29A3-8796-43A5-A1EA-4E25CA89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A0135-CF6F-4231-9911-918D1B0C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2E504-15EB-473A-BFC1-5F7C8C7F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57959-DC0A-4DAC-AA19-D12955A0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D391-B14D-40F7-8AF1-E1826E9E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78836-7481-4468-BE57-88185866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3CB0D-A063-4169-9AD2-8A6123BA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9EF1D-1B3E-4030-BACB-0E470949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72CF2-74AA-4375-80D3-CAC7E63C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86011-74DC-4871-AD9F-06E69DFE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6BBC0-0C18-4597-B5BB-2406F290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D36D9-079F-42E9-8908-AFFC512C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2D877-F7C7-411E-9E2E-49387FA3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A3B8D-E42B-47E9-8C04-BEEFBC0A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1FC05-31C9-42C4-9B19-87DB99A1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9E53-9D0F-4BC3-8B31-2C5440BE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4A896-8AC7-423C-B8CB-43CFC745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B2126-FF50-4E9B-BBCB-18720AAA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37803-7A30-4FF8-8C84-5F43C6D0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71114-8A3C-48FA-9D5E-D3500705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C6DB7-C5CB-4D41-8D73-792DAB93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14C9A-D4DF-47FB-842B-CDCDDA35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89979-751C-45F0-AE08-B4B575B6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DE008-39C1-4967-84DB-6D8D248E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9BC3F-CB7E-49B3-A084-FE06F09A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D3387-61C5-4B40-88BA-AA6C08DF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B75-BC71-4214-A83A-5E4E1CB8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19940-BAFD-442D-980E-4B89A2DF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C1EF5-2C16-425A-B1B6-F0EB99F3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56316-57B1-49E4-BAD8-9D5F2389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331E6-73E8-4A4C-80A1-38763A8F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05827-1A4E-4277-ADBA-9E8E410C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F627F-9CBA-4D48-85E1-5B6A82E8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B0D78-5CE7-42B1-A5A1-F6FE1F69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6c9087"/>
                </a:gs>
                <a:gs pos="50000">
                  <a:srgbClr val="81aba0"/>
                </a:gs>
                <a:gs pos="100000">
                  <a:srgbClr val="6c90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e3b38"/>
                </a:gs>
                <a:gs pos="50000">
                  <a:srgbClr val="cd817b"/>
                </a:gs>
                <a:gs pos="100000">
                  <a:srgbClr val="5e3b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50000">
                  <a:srgbClr val="668e69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73FE-68CD-46F9-9AED-25263F0F9C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6c9087"/>
                </a:gs>
                <a:gs pos="50000">
                  <a:srgbClr val="81aba0"/>
                </a:gs>
                <a:gs pos="100000">
                  <a:srgbClr val="6c90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e3b38"/>
                </a:gs>
                <a:gs pos="50000">
                  <a:srgbClr val="cd817b"/>
                </a:gs>
                <a:gs pos="100000">
                  <a:srgbClr val="5e3b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50000">
                  <a:srgbClr val="668e69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9E99-5AE2-4FBB-AC31-88D606139A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9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A9C6-051A-44EA-9FE4-88D192C23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5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C637-5EDB-483F-8B44-CC0A97351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1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1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1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1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39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B408-D85C-4482-A5F1-BEB31F5C977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8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8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9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0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0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6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9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9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0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6B94-6450-40E2-A664-01EA8262D7C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6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69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DEC3-3371-435A-9005-383F389EDF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1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5696-9E81-4ED0-8CE6-D2A0E861F9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Las Comidas!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r: Ryan Heminwa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Desayu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el desayuno me gusta com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3657600" y="3946680"/>
            <a:ext cx="2133720" cy="167004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1908000" y="41148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huevo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191120" y="5562720"/>
            <a:ext cx="10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lech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3"/>
          <a:stretch/>
        </p:blipFill>
        <p:spPr>
          <a:xfrm>
            <a:off x="5715000" y="2438280"/>
            <a:ext cx="2305080" cy="172908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6464520" y="40752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beico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4"/>
          <a:stretch/>
        </p:blipFill>
        <p:spPr>
          <a:xfrm>
            <a:off x="1523880" y="4800600"/>
            <a:ext cx="2295720" cy="171612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5"/>
          <a:stretch/>
        </p:blipFill>
        <p:spPr>
          <a:xfrm>
            <a:off x="5638680" y="4800600"/>
            <a:ext cx="2362320" cy="177156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1981080" y="6491160"/>
            <a:ext cx="8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pa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175440" y="64911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bana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Almuerz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 el almuerzo me gusta com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514600" cy="185724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1664640" y="430380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Un bocadill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5791320" y="2514600"/>
            <a:ext cx="2590560" cy="190512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6480360" y="43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naranj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3429000" y="3809880"/>
            <a:ext cx="2438280" cy="182412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3813480" y="556272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Una Coca-col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4"/>
          <a:stretch/>
        </p:blipFill>
        <p:spPr>
          <a:xfrm>
            <a:off x="5791320" y="4648320"/>
            <a:ext cx="2590560" cy="181908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6095880" y="640080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s papas frit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5"/>
          <a:stretch/>
        </p:blipFill>
        <p:spPr>
          <a:xfrm>
            <a:off x="990720" y="4648320"/>
            <a:ext cx="2514600" cy="175248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1600200" y="63244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ensalad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Ce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ara la cena me gusta comer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2361960" cy="190044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1983960" y="4267080"/>
            <a:ext cx="9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poll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2"/>
          <a:stretch/>
        </p:blipFill>
        <p:spPr>
          <a:xfrm>
            <a:off x="5715000" y="2438280"/>
            <a:ext cx="2438280" cy="19051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6403680" y="426708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s pap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5715000" y="4572000"/>
            <a:ext cx="2495520" cy="182880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6175440" y="63244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os guissant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4"/>
          <a:stretch/>
        </p:blipFill>
        <p:spPr>
          <a:xfrm>
            <a:off x="3429000" y="3733920"/>
            <a:ext cx="2362320" cy="19317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3581280" y="563868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Jugo de manza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5"/>
          <a:stretch/>
        </p:blipFill>
        <p:spPr>
          <a:xfrm>
            <a:off x="1219320" y="4800600"/>
            <a:ext cx="2361960" cy="175248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1603800" y="64911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s zanahori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5:03Z</dcterms:created>
  <dc:creator>heminwayrya</dc:creator>
  <dc:description/>
  <dc:language>en-US</dc:language>
  <cp:lastModifiedBy>heminwayrya</cp:lastModifiedBy>
  <dcterms:modified xsi:type="dcterms:W3CDTF">2011-04-14T14:48:56Z</dcterms:modified>
  <cp:revision>7</cp:revision>
  <dc:subject/>
  <dc:title>Las Comidas!</dc:title>
</cp:coreProperties>
</file>